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997700" cy="9244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114AE-68AE-4B9F-A609-5F67CD049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A1DD7-0BAC-4931-8116-A3639B616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29A4A-4797-4F9E-AD45-103FCD907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A4D5F-1F5C-4DE3-B85D-CE8385A41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0F11E7-DA36-4227-B239-A7A3BDFF3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F16ECB-0528-4B88-AAF4-3486ED478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6DCCB8-5CBF-4F05-994B-2BC05D142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5B9B5F-9745-464C-8E13-6C3346C85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6D7807-31BB-4374-98C2-09F6609DC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6E6D92-963C-4D2D-B468-79AEDC8B4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5FD951-B246-40D8-BB81-1997A07D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10894-0B2E-4F63-BDFC-CDE79E5F3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3290DA-D33D-42C9-A234-8A342571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80DC1B-C1A9-4284-83A1-13C4974A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17DD4C-72AC-4386-811F-DED09A814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F9A286-80F7-4C3C-A9B4-070C9575F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1395D2-5D7C-4EC3-90D5-E3632825B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869FA-DD99-47C7-901E-62624286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0B607-5349-4BFF-83E3-8CD7E34AD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60633-CD92-4D3B-B8E2-20F0FCF35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5AE4E-FD29-478B-9337-F8301A0F9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D3229-6E25-46BE-BEF8-AA489E3D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C22DD-E151-4E92-9547-3E3E8D07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5981D-DF43-46AB-A26D-C6917CC4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51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B62FF-61E9-4458-BFD0-1C8F3D499B30}" type="slidenum">
              <a:rPr b="0" lang="en-US" sz="1200" spc="-1" strike="noStrike">
                <a:solidFill>
                  <a:srgbClr val="00051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51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E4143-16A0-4906-910E-57C25D43F57C}" type="slidenum">
              <a:rPr b="0" lang="en-US" sz="1200" spc="-1" strike="noStrike">
                <a:solidFill>
                  <a:srgbClr val="00051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200400" y="5249880"/>
            <a:ext cx="3075120" cy="21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Listening Sess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ecember 9, 200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09120" y="1218960"/>
            <a:ext cx="80010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91440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Structure, Process, &amp;</a:t>
            </a:r>
            <a:br>
              <a:rPr sz="4000"/>
            </a:b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Overarching Question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35280" y="2895480"/>
            <a:ext cx="555624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Thomas B. Valuck, M.D., J.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dical Officer &amp; Senior Advi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enter for Medicare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305920" y="6324480"/>
            <a:ext cx="4572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5348D-EEEA-4413-9D54-BE56FFF266A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esign Principl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Gener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ngage stakeholder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pply experience from Medicare VBP initiatives and from private-sector performance-based payment initiativ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nsider multiple approaches to accommodate multiple practice arrangements and care setting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AC6D8-32FB-4147-8E4F-21F139AE6C8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1143000"/>
            <a:ext cx="7848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General (continued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void creating additional health care disparities and work to reduce existing on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Develop an ongoing evaluation process to assess impact, monitor for unintended consequences, and support improvement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etailed principles will be addressed in relevant present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esign Principl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C97E3-FC88-4D1E-8B73-F53A3553029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62120" y="8380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orning Ses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Introduction, Context, Overarching Questions, and comments – 75 minut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Measures presentation and comments –            60 minut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3880" indent="-2638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Lunch – 45 minu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3880" indent="-26388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fternoon Ses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Incentive Structure presentation &amp; comments -   60 minut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Data Strategy and Public Reporting presentations &amp; comments – 40 minutes eac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General comments – 30 minut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Next Step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Conduct of the Sess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E1C69-0E3C-4D08-BB30-7162E4B384F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tate your name and organiz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Limit remarks to 2 minu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mments first from those on-site, then from teleconference participant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Feel free to leave the room, as needed;  only formal break will be lunc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"/>
          <p:cNvSpPr/>
          <p:nvPr/>
        </p:nvSpPr>
        <p:spPr>
          <a:xfrm>
            <a:off x="1824480" y="223920"/>
            <a:ext cx="564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Conduct of the Sess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7CB7E-2F68-4BC1-9621-4D6F4EE2CAA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Overarching Questi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6197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Will the stated objectives, assumptions, and principles support higher quality of care for Medicare beneficiaries and better value from Medicare spending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What other planning parameters should be considered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369F6-4DEB-49F0-9985-1F773E3F125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Overarching Questi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837720"/>
            <a:ext cx="76197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s it desirable to have several different approaches to accommodate different practice arrangements across various care settings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If so, how should this be accomplished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02F06-3DA0-47F3-8280-2CABD0716A0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Overarching Questi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6197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What steps can CMS take in the design and implementation of the PVBP Plan to reduce health care disparities or, at a minimum, to avoid exacerbating existing disparities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94B70-59FE-41A8-91EA-22C4D8458A0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5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Opportunity for Public Comm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"/>
          <p:cNvSpPr/>
          <p:nvPr/>
        </p:nvSpPr>
        <p:spPr>
          <a:xfrm>
            <a:off x="3170160" y="223920"/>
            <a:ext cx="277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99"/>
                </a:solidFill>
                <a:latin typeface="Tahoma"/>
              </a:rPr>
              <a:t>Thank You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E8556-97C5-4293-B3C8-00504C7EE3C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Overview of the Presenta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2640" y="1523880"/>
            <a:ext cx="7010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Legislative background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Overview of CMS process to develop the Pla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VBP assumptions and general design princip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pproach to conducting the Listening Ses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Overarching Questions for comm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2D585-90DC-447A-AEE4-BF250A855C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Legislative Background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dicare  Improvements for Patients and Providers Act (MIPPA) of 2008 requires Secretary of Health and Human Services to develop a plan to transition to value-based purchasing for physician and other professional service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Report to Congress to be submitted by May 1, 2010 containing Plan with recommendations for legislation and administrative ac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CA375-014C-4533-845C-1164DB9B12B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PVBP Plan Development Structure</a:t>
            </a:r>
            <a:r>
              <a:rPr b="1" lang="en-US" sz="5400" spc="-1" strike="noStrike">
                <a:solidFill>
                  <a:srgbClr val="ffcc00"/>
                </a:solidFill>
                <a:latin typeface="Garamond"/>
              </a:rPr>
              <a:t>  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99"/>
              </a:spcBef>
              <a:spcAft>
                <a:spcPts val="79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CMS PVBP Workgroup with Subgroups to addre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asur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ncentive Structu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ata Strategy &amp; Infrastructur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ublic Report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7C554-D383-4A05-BA21-F29379FA276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CMS Subgroup Leads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914400"/>
            <a:ext cx="73915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asur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Michael Rapp, MD, JD </a:t>
            </a:r>
            <a:r>
              <a:rPr b="0" i="1" lang="en-US" sz="2400" spc="-1" strike="noStrike">
                <a:solidFill>
                  <a:srgbClr val="003399"/>
                </a:solidFill>
                <a:latin typeface="Tahoma"/>
              </a:rPr>
              <a:t>Office of Clinical Standards &amp; Quality (OCSQ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Karen Milgate, </a:t>
            </a:r>
            <a:r>
              <a:rPr b="0" i="1" lang="en-US" sz="2400" spc="-1" strike="noStrike">
                <a:solidFill>
                  <a:srgbClr val="003399"/>
                </a:solidFill>
                <a:latin typeface="Tahoma"/>
              </a:rPr>
              <a:t>Office of Policy (OP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ncentive Structur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Terrence Kay &amp; Thomas Valuck, MD, JD,  </a:t>
            </a:r>
            <a:r>
              <a:rPr b="0" i="1" lang="en-US" sz="2400" spc="-1" strike="noStrike">
                <a:solidFill>
                  <a:srgbClr val="003399"/>
                </a:solidFill>
                <a:latin typeface="Tahoma"/>
              </a:rPr>
              <a:t>Center for Medicare Management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ata Strategy &amp; Infrastructur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William Matos, </a:t>
            </a:r>
            <a:r>
              <a:rPr b="0" i="1" lang="en-US" sz="2400" spc="-1" strike="noStrike">
                <a:solidFill>
                  <a:srgbClr val="003399"/>
                </a:solidFill>
                <a:latin typeface="Tahoma"/>
              </a:rPr>
              <a:t>OCSQ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ublic Report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Jane Thorpe, </a:t>
            </a:r>
            <a:r>
              <a:rPr b="0" i="1" lang="en-US" sz="2400" spc="-1" strike="noStrike">
                <a:solidFill>
                  <a:srgbClr val="003399"/>
                </a:solidFill>
                <a:latin typeface="Tahoma"/>
              </a:rPr>
              <a:t>O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Jayne Hammen, </a:t>
            </a:r>
            <a:r>
              <a:rPr b="0" i="1" lang="en-US" sz="2400" spc="-1" strike="noStrike">
                <a:solidFill>
                  <a:srgbClr val="003399"/>
                </a:solidFill>
                <a:latin typeface="Tahoma"/>
              </a:rPr>
              <a:t>Office of Beneficiary Information Servic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0BE14-5EFE-444C-852E-8B84989AF6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75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Tahoma"/>
              </a:rPr>
              <a:t>CMS PVBP Workgroup Tasks and Expected Timeline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980720" y="1219320"/>
            <a:ext cx="6782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-5482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harter Workgroup &amp; Subgroup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evelop Issues Paper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8280" indent="-548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nduct Listening Session for          Stakeholder Input on Issues Pap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8280" indent="-548280">
              <a:lnSpc>
                <a:spcPct val="80000"/>
              </a:lnSpc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evelop Options Pap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roposed Listening Session for Input on Options Paper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8280" indent="-548280">
              <a:lnSpc>
                <a:spcPct val="100000"/>
              </a:lnSpc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repare draft PVBP Plan Repor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8280" indent="-548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ubmit Final PVBP Plan Report to Congr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1371600"/>
            <a:ext cx="9907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99"/>
                </a:solidFill>
                <a:uFillTx/>
                <a:latin typeface="Tahoma"/>
              </a:rPr>
              <a:t>200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Sep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Dec 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99"/>
                </a:solidFill>
                <a:uFillTx/>
                <a:latin typeface="Tahoma"/>
              </a:rPr>
              <a:t>200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Ju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5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No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99"/>
                </a:solidFill>
                <a:uFillTx/>
                <a:latin typeface="Tahoma"/>
              </a:rPr>
              <a:t>2010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May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C6CDD-DAF5-4EDC-B848-2F833A251B2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440" y="99072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eveloped by CMS PVBP Workgroup and Subgroup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osted on CMS Website November 24, 2008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Outlines key design issues for this Listening Ses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ssumptions intended to provide flexibility in developing Design Options and draft PVBP Pla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takeholder comments, both presented at this Session and submitted in writing, will assist in developing Design Op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 number of different options will be modeled to explore implications for fee-for-service Medicare population and providers serving i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Issues Paper Approach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14519-7AAA-4C1C-BEB9-9673144B247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PVBP Plan Assumpti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91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rimary focus will be on performance-based pay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lan will accommodate different practice arrangem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lan will recognize the contributions of the members of the health professional tea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lan will consider multiple levels of accountability, including individual, teams, groups, and “accountable care entities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B975E-58CF-414A-9439-E3E8A13ABED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PVBP Plan Assumpti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3915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lan will be at least budget-neutral across at least Medicare Parts A and B and will seek to identify saving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hared savings” options will be considered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nitial focus will be fee-for-service Medica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lan design will have short-term (1 – 3 years) and long-term (&gt;3 years) timefram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6D375-3256-4672-AFB2-0F4F14544D4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15:39:28Z</dcterms:created>
  <dc:creator>Tinabeth Burton</dc:creator>
  <dc:description/>
  <dc:language>en-US</dc:language>
  <cp:lastModifiedBy>CMS</cp:lastModifiedBy>
  <dcterms:modified xsi:type="dcterms:W3CDTF">2008-12-08T15:38:51Z</dcterms:modified>
  <cp:revision>45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18232597</vt:r8>
  </property>
  <property fmtid="{D5CDD505-2E9C-101B-9397-08002B2CF9AE}" pid="3" name="_AuthorEmail">
    <vt:lpwstr>Julianne.Howell@cms.hhs.gov</vt:lpwstr>
  </property>
  <property fmtid="{D5CDD505-2E9C-101B-9397-08002B2CF9AE}" pid="4" name="_AuthorEmailDisplayName">
    <vt:lpwstr>Howell, Julianne R. (CMS/CTR)</vt:lpwstr>
  </property>
  <property fmtid="{D5CDD505-2E9C-101B-9397-08002B2CF9AE}" pid="5" name="_EmailSubject">
    <vt:lpwstr>PVBP Slides renamed</vt:lpwstr>
  </property>
  <property fmtid="{D5CDD505-2E9C-101B-9397-08002B2CF9AE}" pid="6" name="_NewReviewCycle">
    <vt:lpwstr/>
  </property>
  <property fmtid="{D5CDD505-2E9C-101B-9397-08002B2CF9AE}" pid="7" name="_PreviousAdHocReviewCycleID">
    <vt:r8>19914282</vt:r8>
  </property>
</Properties>
</file>